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667-CDD4-48ED-9903-DFD3CD71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F32-07B3-4F84-940B-A37C254F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BAE-25CF-492C-8825-62B5E272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00B-0C8F-42B7-8213-C6C67557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83E8-DAC0-4323-9FD4-10D11053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6AED-7848-4FC2-984B-FC8FCFCF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75A0-5D8D-4DE4-974F-0555C35B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C538-6798-47D9-AA1E-6A8736A3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A5EE-FF18-4080-9BF7-87AB8096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D9B4-A698-4E2F-8F99-383226A8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2B4D-F8A5-4EDE-B332-24942423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618-E6A0-4938-9228-D9764DA0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3EDF-9E84-454D-AF03-4D4DB499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5D2C-29D9-4457-A754-F01AF10E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E432-D430-4370-ADBC-FC20B78A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5326-65BC-4876-8624-1749382A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0962-25CB-4D61-A0C4-15553689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D47-8966-4E50-8AC6-B828086E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0E1-C774-4302-A35A-BE4AC139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31F-CA68-47A3-96A3-89E74201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A83-0284-4278-B1F5-F8861953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DB0-09C7-4AAD-BD18-97481385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E02-CE11-41C6-9733-809C9256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846-DBA1-484C-A8B3-2427AE86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A77F-F135-4CAB-BFF4-CA8692CA2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0507-3E77-498F-A452-D6E9B4237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al the De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 Hubb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0227-24E5-4194-BB38-6B0306793253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dience will be informed about seals; such as where they live (their habitat), their diet (what they eat) and their predators. They will be able to answer question If asked on the animal (spotted seal)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abitat, diet, predicato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tra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ertise my movie so that more people will watch it. If I advertise my movie well then I will be making more money then I would be losing advertising i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will be different because it will have a different way of presenting it such as; more information then most of movies and higher quality pictur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59:07Z</dcterms:created>
  <dc:creator/>
  <dc:description/>
  <dc:language>en-US</dc:language>
  <cp:lastModifiedBy>City School</cp:lastModifiedBy>
  <dcterms:modified xsi:type="dcterms:W3CDTF">2013-02-20T19:16:11Z</dcterms:modified>
  <cp:revision>39</cp:revision>
  <dc:subject/>
  <dc:title>The Pitch-Then-Plan Business Planning Template</dc:title>
</cp:coreProperties>
</file>